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236-8B25-42A6-A99F-9F1DC245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914-7760-43A3-9DBC-DAD1C6B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631-D05D-4A07-B8EC-484505D2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238-36FB-491F-B275-A75EC160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BB58-C656-45FA-94A3-FBED029B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6EBD-52F5-4A1B-9350-D0588A79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19EE-EB6D-4ABA-ABE2-5CA9DA3F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2C68-9572-4219-88C7-EEADFC6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A36A-786E-49B3-85EB-5D4B0216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EE55-FE13-4F13-AE9A-7FD701C7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5595-C8DF-4C49-B1CF-547B26D5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A84-9F66-4392-88B8-7F3353D7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3EA1-DC58-47AC-9283-C670E8C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E01B-E504-49DD-B42C-0E1BF68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7121-DF20-456D-A578-A873581E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941D-26F6-4AFC-83EC-C4B519E4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539B-85A7-40DA-AB35-D83301B2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33A-00BF-43A3-974F-E67D11DE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FCD1-09CF-4F4B-90F1-3707F7A2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C7C4-7593-4FEA-BE69-4DA6629A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3138-9D99-487C-9277-64DB9B2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170-5B2B-4119-8849-5A9AB42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BD94-52A4-48D5-9699-E7538CD9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1D396-F4B6-4D25-A298-9279AEE6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FE73-790F-405F-895F-892491A7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3672-3F77-4F69-A1E7-F5D4749E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27E8-0491-49E5-9C10-EE9D82FE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53ED-A1E4-49BA-A8B8-95293DBC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9BA1-B227-4AD3-BAAD-E267E2B0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358F-4624-4878-B1DD-F2B5B316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410E-428E-450C-8132-C2D0909B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0C2-9AF9-463D-A0FE-31786267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898-E573-43C3-B7E2-602D6E7D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C227-3B4B-45AA-B7BA-AC4AF769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DE32A-86AA-4E29-8B53-5C43595F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284E-427F-4773-B8BF-6A1236A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4EDA2-C35A-493A-8B61-964E9FF3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FA344-B5B4-4C61-B75C-E62DD22E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1C74-DB85-4D5C-8F19-8F33E9CB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F09B-9C58-4D6B-97D8-88548F2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411CC-C82A-4C6C-9701-F12DC61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D4860-77FA-4A63-9A71-038E4CBD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16C-786C-4E14-BEC6-92E128D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C819-AA17-4D3E-A35B-860D3F66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32EA-A47C-4815-876E-3DECB01A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FA39D-550E-480B-A719-618DC798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69D-74F3-47F2-9889-4909E8EE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1BFC-D20E-42F4-A826-B185D8FA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A88F-BF6B-42E5-BE12-EC8FAF40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CE5FC-03EC-429F-96D7-14CDB1D6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D6B26-1A3D-495E-9605-B2F86AC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09DE1-F804-4293-9194-AE524C6D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C3B-E623-437B-9B91-B0EBA27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5504-A05C-4DAB-83CE-BF2D0921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756C-AC19-4729-BD57-4D8194A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ECC3F-3DB6-4C0C-9AEC-A3C18D61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A5D9-55F5-4AA7-BF3F-21D3F39D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67B0-99E7-4C2A-9E1D-74425C99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9ED2-99E0-42C7-B5C7-6D011DC1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5740C-13C4-4CC6-BA01-3191B96B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F112-5EAD-4124-BB6C-3BEDD4DC26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B74F-8121-433E-B6F9-327277C41D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2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3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5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5D69-DC86-478B-99DE-D0A8A0739EE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99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e1f0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99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3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CB2-18A8-4903-BBDF-9E8E303AB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2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5FB-B603-4907-ABFF-9E99EBF406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as Comida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or: Chase Reard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Desayun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6548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el desayuno me gusta co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1523880" y="43434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219320" y="4191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2447640" cy="17064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5486400" y="4227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956840" y="40384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2895480" cy="193860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tretch/>
        </p:blipFill>
        <p:spPr>
          <a:xfrm>
            <a:off x="6496200" y="4343400"/>
            <a:ext cx="2647800" cy="20098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6324480" y="6324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os mol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3657600" y="4572000"/>
            <a:ext cx="2867040" cy="15699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4365720" y="62485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 bei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5"/>
          <a:stretch/>
        </p:blipFill>
        <p:spPr>
          <a:xfrm>
            <a:off x="609480" y="4495680"/>
            <a:ext cx="2667240" cy="17067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1165680" y="6216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l ce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Amuerz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672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el amuerzo me gu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1973160" cy="198108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5638680" y="24382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5715000" y="4648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35040" y="44956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andw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3"/>
          <a:stretch/>
        </p:blipFill>
        <p:spPr>
          <a:xfrm>
            <a:off x="3276720" y="2438280"/>
            <a:ext cx="1788840" cy="20574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3200400" y="4495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erveza no alcohol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4"/>
          <a:stretch/>
        </p:blipFill>
        <p:spPr>
          <a:xfrm>
            <a:off x="609480" y="4800600"/>
            <a:ext cx="1324080" cy="14670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614520" y="617220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nz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5"/>
          <a:stretch/>
        </p:blipFill>
        <p:spPr>
          <a:xfrm>
            <a:off x="2362320" y="5046840"/>
            <a:ext cx="2466720" cy="18111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4800600" y="6019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un 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5c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e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024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la cena me gusta co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3200400" y="2590920"/>
            <a:ext cx="2057400" cy="161424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52280" y="4572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683880" y="4267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 ste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5791320" y="22860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477120" y="44197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0" y="4419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spina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4"/>
          <a:stretch/>
        </p:blipFill>
        <p:spPr>
          <a:xfrm>
            <a:off x="1295280" y="4572000"/>
            <a:ext cx="2667240" cy="1770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447920" y="6477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 hamburgu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5"/>
          <a:stretch/>
        </p:blipFill>
        <p:spPr>
          <a:xfrm>
            <a:off x="4648320" y="4572000"/>
            <a:ext cx="2228760" cy="1674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4857120" y="6248520"/>
            <a:ext cx="17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rley te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7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23:29Z</dcterms:created>
  <dc:creator>reardoncha</dc:creator>
  <dc:description/>
  <dc:language>en-US</dc:language>
  <cp:lastModifiedBy>reardoncha</cp:lastModifiedBy>
  <dcterms:modified xsi:type="dcterms:W3CDTF">2011-04-26T12:51:32Z</dcterms:modified>
  <cp:revision>3</cp:revision>
  <dc:subject/>
  <dc:title>Las Comidas</dc:title>
</cp:coreProperties>
</file>